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812F-B986-4016-AF2E-0C6806C31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E12F-DA1E-4CAE-BA7F-E0A5E30A5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956F-316E-4421-A4BE-CAF1D3D9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EF3B-D7A3-4611-BA3E-61D6AD7D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78EE-6D44-4A40-9F9C-947300947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1769-F184-440A-90A8-221D0E58E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5CC8-0158-4E05-AF20-D80A73E4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7AD9-C3E0-44EB-9B82-79511262B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C6CB-96D5-4175-9E2A-A55A0BAD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2579-4B54-45EB-8AFA-74496F97E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7500-5E0B-471E-AA65-2BFF20DB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F91-196E-473E-8590-099684645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C6E-751C-4845-8131-404D719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EBA-2E74-4CE6-B930-880EBC54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DBA-B53E-4406-991F-F76462C7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195-E8FD-4E3C-956B-38EB91E2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45EF-6B4C-43B8-BED5-502F3987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4674-83A2-4545-80F8-929911C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CA1B-1B71-40BB-A6F3-0E4A705B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9727-0E68-41A7-B8F4-1C16BA09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A5CD-4B22-474A-8E04-DFE0EA0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221-0AE7-4E31-927C-B6B9556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1F2B-F208-4E09-85F1-2A23487A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4AD-AD5D-4276-A91F-75F3E479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89FE-981C-4284-B346-DEB7625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A93E-9FB6-44A5-94BC-24F3F84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507A-82C0-4A5A-9D77-C95F2FE3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F06D-F4E6-4FDC-8242-FADD93D9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A5B2-F220-43D6-929C-BD5BB48A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C590-EC45-42C7-93CE-83EA6941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FA65-6099-4577-B1AF-150E9F97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6900-532E-4EB2-8359-350E4EE1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CEC5-09F1-4D86-AD76-DD255A7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6454-0893-418E-92B5-C8F9F0B3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54D-46BB-4F96-B32A-AF2D571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D433-B0DD-47C8-9347-BD4099F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7C89-31BD-4BB7-BA67-C553612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DB48-9273-47E6-A3E5-3CA13AE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DA2D-96D8-4731-8EE4-31A85D4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29EEB-BA71-49F7-951C-9724F027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4A1B-26C2-4428-9C86-CE4A1BC7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0FB8-F449-4B83-ADDF-3CDF2CF5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C3FB-C7DC-41B0-8BFA-A382A0BC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BA98-8C3A-43FD-9093-9CC1FC7A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BE4C-8777-4EEB-A131-AC0BBB38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5E7-05AB-4BD6-A13E-AF53286F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BA02-321A-4AAF-9238-EAFA646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A20C-E0E3-4C0E-9EBF-5D55302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64EB-84B1-4500-812E-1B59AC6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D703-234D-454B-B2F9-C8DCA4E4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4FAE-87A5-4ECA-9DDE-C8BF3472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2791-28C5-4AA0-88A4-3439C529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8B17-F30D-4244-8026-7DB7292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5D8EE-94DC-40CC-BDD5-F13A2B8E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02BC-0E81-43EB-9920-F9668967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2C9-74ED-40C7-A40D-124FB2B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112-F648-453A-AB8A-58C78462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9C6-76A5-48E4-B9C2-B9DBEBC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66A-377C-43B9-B149-570C288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884-E3AD-4635-AEA3-DEFA8D40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875A-C30C-4946-8998-CD3A7654D7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602C-8817-4B0E-AFBF-1D535AEABF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83C-45C7-46C3-B1CE-C9C162337F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B46-243B-47BB-A5BA-6BA9D6D969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75360" cy="1944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36760" y="403848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S – UNITE 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Asi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5" descr="images-7.jpeg"/>
          <p:cNvPicPr/>
          <p:nvPr/>
        </p:nvPicPr>
        <p:blipFill>
          <a:blip r:embed="rId2"/>
          <a:stretch/>
        </p:blipFill>
        <p:spPr>
          <a:xfrm>
            <a:off x="2362320" y="914400"/>
            <a:ext cx="6476760" cy="52578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928800" y="2057400"/>
            <a:ext cx="1071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Amériqu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928800" y="2057400"/>
            <a:ext cx="1071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7" descr="images-8.jpeg"/>
          <p:cNvPicPr/>
          <p:nvPr/>
        </p:nvPicPr>
        <p:blipFill>
          <a:blip r:embed="rId2"/>
          <a:stretch/>
        </p:blipFill>
        <p:spPr>
          <a:xfrm>
            <a:off x="2819520" y="990720"/>
            <a:ext cx="5333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Europ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EUROPE-MAP-clic.png"/>
          <p:cNvPicPr/>
          <p:nvPr/>
        </p:nvPicPr>
        <p:blipFill>
          <a:blip r:embed="rId2"/>
          <a:stretch/>
        </p:blipFill>
        <p:spPr>
          <a:xfrm>
            <a:off x="1600200" y="1143000"/>
            <a:ext cx="60595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905120" y="1219320"/>
            <a:ext cx="5715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vous dis dans quelle capitale, je suis et vous devez écrire dans quel pays je me trouv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avez compr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1295280" y="914400"/>
            <a:ext cx="670572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ez une feuille et écrivez le nom des capi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1295280" y="1828800"/>
            <a:ext cx="670572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is regardez la carte de l’Europe et écrivez le numéro du Pays où je me trou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Europ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europa.gif"/>
          <p:cNvPicPr/>
          <p:nvPr/>
        </p:nvPicPr>
        <p:blipFill>
          <a:blip r:embed="rId2"/>
          <a:stretch/>
        </p:blipFill>
        <p:spPr>
          <a:xfrm>
            <a:off x="2133720" y="1066680"/>
            <a:ext cx="6360840" cy="5316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3886200" y="4343400"/>
            <a:ext cx="3808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971800" y="5105520"/>
            <a:ext cx="3808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4876920" y="5257800"/>
            <a:ext cx="3808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4724280" y="3733920"/>
            <a:ext cx="38124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1295280" y="914400"/>
            <a:ext cx="670572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ez une feuille et écrivez le nom des capi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288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36484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2440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2440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24408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1295280" y="914400"/>
            <a:ext cx="6705720" cy="77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êt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288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236484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440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2440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24408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Asi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5" descr="images-7.jpeg"/>
          <p:cNvPicPr/>
          <p:nvPr/>
        </p:nvPicPr>
        <p:blipFill>
          <a:blip r:embed="rId2"/>
          <a:stretch/>
        </p:blipFill>
        <p:spPr>
          <a:xfrm>
            <a:off x="1523880" y="914400"/>
            <a:ext cx="6705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26:26Z</dcterms:created>
  <dc:creator>Mr. Smith</dc:creator>
  <dc:description/>
  <dc:language>en-US</dc:language>
  <cp:lastModifiedBy>Viviane Grebert</cp:lastModifiedBy>
  <dcterms:modified xsi:type="dcterms:W3CDTF">2011-12-10T21:52:06Z</dcterms:modified>
  <cp:revision>87</cp:revision>
  <dc:subject/>
  <dc:title>La Touraine</dc:title>
</cp:coreProperties>
</file>